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DEEE-A98E-4E74-9FEC-B056475F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EFCA-5C07-4FDA-92C2-5F346340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6944-937C-4C17-BB6E-79905A7E2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4F3B-FD3C-4A71-B44A-8D5977B05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205C-87E8-480C-BD5E-0DEC7930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7429-8F6B-44EA-9E0D-54C71B26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4422-E046-467E-96C0-6926BC56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6CA4-17C6-4BC9-8B5C-FE23F63B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4A7F-C8AF-4E68-922C-4ADFD2C9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7296-2555-4080-A5E9-EDA59604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5250-589D-4112-931F-B0A8195E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9257-1EE1-42BD-9CDE-E5D5676D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17F2-2B15-4D46-A08A-2DC270CF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3143-577B-4095-AC5E-F8F99A70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A20F-22DB-4610-8A74-4D2492D0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E9C4-192C-4193-898A-17FC0D650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77F8-2C26-4228-B21E-47DD3569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E855-E5E9-4BAD-8EF9-6A155390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0521-CD70-43E4-9375-6E8B450D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7542-8E7F-4182-B84F-90AD40E6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F4F6-2612-483C-8C1C-BBFEDDDB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9BE8-9E33-40FA-8189-B358C4AA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7BB6-A545-4482-8728-59E7CBE6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B2A5-FA2D-4902-9FA1-7E756964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FC7D-543F-4D9E-80E9-26248E3F26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1300-A7C1-4866-BF36-C5678198EF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n The Days of the Judg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3, Lesson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es 8:4 -9:5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. 74-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ideon Kills Other Midianite Leader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4724280" cy="3543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80880" y="502920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ccoth – Today Tell Deir All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Fords of Jabbok from north"/>
          <p:cNvPicPr/>
          <p:nvPr/>
        </p:nvPicPr>
        <p:blipFill>
          <a:blip r:embed="rId3"/>
          <a:stretch/>
        </p:blipFill>
        <p:spPr>
          <a:xfrm>
            <a:off x="5105520" y="1447920"/>
            <a:ext cx="3809880" cy="2371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10080" y="40384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nu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9724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438280" y="765000"/>
            <a:ext cx="6705720" cy="56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00:39:12Z</dcterms:created>
  <dc:creator>Terry Benton</dc:creator>
  <dc:description/>
  <dc:language>en-US</dc:language>
  <cp:lastModifiedBy>Terry Benton</cp:lastModifiedBy>
  <dcterms:modified xsi:type="dcterms:W3CDTF">2005-02-09T04:52:59Z</dcterms:modified>
  <cp:revision>2</cp:revision>
  <dc:subject/>
  <dc:title>In The Days of the Judges</dc:title>
</cp:coreProperties>
</file>